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A42E0-465A-4AAC-924A-66ADC55C4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D6EA0-1D35-4A9B-B5BA-0684F3DE7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C8B58-5A37-43D7-9B00-6F03F8D9D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51FF9-69CF-42B2-9431-5F2D03B45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240C0-87EC-45E8-A972-B3ECE3D3D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245BE-249A-4C50-AC8E-6A479A22A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F8DC3-A05A-4D58-A075-7FE867E2B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12C61-CD43-485C-AA3A-F4E0CB81E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EDDC7-3191-408F-9EF5-CB2C65B97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47453-C1F4-4AD3-87E4-68F1EF261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781B6-891E-48F9-A7E8-5298CDF2D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B9135-2E24-4CEF-88D0-D92D86F2E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4271A-997E-46CE-958C-6E8613A58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6117F-FEF3-401D-806B-2CB1EA4C7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83E43-1B15-4593-B4A0-3593CCC09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98B82-181E-4088-8A7F-82172CF2E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EDA8B-D0C5-4AD7-9443-95FD63E03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DE918-8839-42AB-BD77-3B4D8D998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D039C-DA10-4E10-A1C8-DF02342A8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55623-15AE-4809-9AED-72D1A137B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7E07C-8455-45C6-9E60-75D194504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A6C10-63D0-464F-814E-93A6CBC8F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DCA16-0D06-48BE-8860-87B7D33E0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E83B5-552B-4661-9CD9-214B8EE8D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B2ED6-5008-4F7A-90AD-1F3D33412978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4E3A4-D16B-4856-BA91-D4BACF993703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1201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33cc"/>
                </a:solidFill>
                <a:uFillTx/>
                <a:latin typeface="Arial"/>
              </a:rPr>
              <a:t>Алгоритм решения зада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8000" y="3505320"/>
            <a:ext cx="82803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cc"/>
                </a:solidFill>
                <a:latin typeface="Arial"/>
              </a:rPr>
              <a:t>Вывод химической формулы, если  известна массовая доля элементов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98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98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33cc"/>
                </a:solidFill>
                <a:uFillTx/>
                <a:latin typeface="Arial"/>
              </a:rPr>
              <a:t>Ответы к задачам.</a:t>
            </a: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 С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С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 u="sng">
                <a:solidFill>
                  <a:srgbClr val="ff33cc"/>
                </a:solidFill>
                <a:uFillTx/>
                <a:latin typeface="Arial"/>
              </a:rPr>
              <a:t>Задача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ыведите формулу вещества, если известно, что массовая доля водорода составляет 18%,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глерода 82%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тносительная плотность по водороду данного веществ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авна 2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3300"/>
                </a:solidFill>
                <a:uFillTx/>
                <a:latin typeface="Arial"/>
              </a:rPr>
              <a:t>I. </a:t>
            </a:r>
            <a:r>
              <a:rPr b="1" lang="ru-RU" sz="4000" spc="-1" strike="noStrike" u="sng">
                <a:solidFill>
                  <a:srgbClr val="ff3300"/>
                </a:solidFill>
                <a:uFillTx/>
                <a:latin typeface="Arial"/>
              </a:rPr>
              <a:t>Определить молярную массу веществ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Arial"/>
              </a:rPr>
              <a:t>Используя одну из формул, вычислить молярную массу вещест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Object 4"/>
          <p:cNvGraphicFramePr/>
          <p:nvPr/>
        </p:nvGraphicFramePr>
        <p:xfrm>
          <a:off x="539640" y="3500280"/>
          <a:ext cx="3694320" cy="1078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3500280"/>
                    <a:ext cx="3694320" cy="107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3" name="Object 6"/>
          <p:cNvGraphicFramePr/>
          <p:nvPr/>
        </p:nvGraphicFramePr>
        <p:xfrm>
          <a:off x="611280" y="5157720"/>
          <a:ext cx="4038480" cy="1005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4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1280" y="5157720"/>
                    <a:ext cx="4038480" cy="100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5" name="Object 9"/>
          <p:cNvGraphicFramePr/>
          <p:nvPr/>
        </p:nvGraphicFramePr>
        <p:xfrm>
          <a:off x="5148360" y="5373720"/>
          <a:ext cx="3733560" cy="1019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6" name="Object 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148360" y="5373720"/>
                    <a:ext cx="3733560" cy="101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7" name="Object 10"/>
          <p:cNvGraphicFramePr/>
          <p:nvPr/>
        </p:nvGraphicFramePr>
        <p:xfrm>
          <a:off x="5435640" y="3645000"/>
          <a:ext cx="2260440" cy="461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8" name="Object 1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435640" y="3645000"/>
                    <a:ext cx="2260440" cy="46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" name="Line 11"/>
          <p:cNvSpPr/>
          <p:nvPr/>
        </p:nvSpPr>
        <p:spPr>
          <a:xfrm>
            <a:off x="2556000" y="4005360"/>
            <a:ext cx="172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12"/>
          <p:cNvSpPr/>
          <p:nvPr/>
        </p:nvSpPr>
        <p:spPr>
          <a:xfrm>
            <a:off x="3059280" y="5589720"/>
            <a:ext cx="1657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13"/>
          <p:cNvSpPr/>
          <p:nvPr/>
        </p:nvSpPr>
        <p:spPr>
          <a:xfrm>
            <a:off x="7236000" y="5877000"/>
            <a:ext cx="1512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3300"/>
                </a:solidFill>
                <a:uFillTx/>
                <a:latin typeface="Arial"/>
              </a:rPr>
              <a:t>II. </a:t>
            </a:r>
            <a:r>
              <a:rPr b="1" lang="ru-RU" sz="4000" spc="-1" strike="noStrike" u="sng">
                <a:solidFill>
                  <a:srgbClr val="ff3300"/>
                </a:solidFill>
                <a:uFillTx/>
                <a:latin typeface="Arial"/>
              </a:rPr>
              <a:t>Определить массу элемен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35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усть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m (C x H y) = 100 </a:t>
            </a: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г,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отсюда следует, чт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= 100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 * 0,82 = 82 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= 100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 * 0,12 = 18 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Object 4"/>
          <p:cNvGraphicFramePr/>
          <p:nvPr/>
        </p:nvGraphicFramePr>
        <p:xfrm>
          <a:off x="2340000" y="3402000"/>
          <a:ext cx="4038480" cy="291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40000" y="3402000"/>
                    <a:ext cx="4038480" cy="291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3300"/>
                </a:solidFill>
                <a:uFillTx/>
                <a:latin typeface="Arial"/>
              </a:rPr>
              <a:t>III. </a:t>
            </a:r>
            <a:r>
              <a:rPr b="1" lang="ru-RU" sz="4000" spc="-1" strike="noStrike" u="sng">
                <a:solidFill>
                  <a:srgbClr val="ff3300"/>
                </a:solidFill>
                <a:uFillTx/>
                <a:latin typeface="Arial"/>
              </a:rPr>
              <a:t>Вычислить количество вещества элементов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 формуле                                 рассчитат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личество вещества углерода и водород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Object 4"/>
          <p:cNvGraphicFramePr/>
          <p:nvPr/>
        </p:nvGraphicFramePr>
        <p:xfrm>
          <a:off x="3348000" y="1700280"/>
          <a:ext cx="1573200" cy="87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48000" y="1700280"/>
                    <a:ext cx="1573200" cy="87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0" name="Line 6"/>
          <p:cNvSpPr/>
          <p:nvPr/>
        </p:nvSpPr>
        <p:spPr>
          <a:xfrm>
            <a:off x="4500720" y="2060640"/>
            <a:ext cx="57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" name="Object 9"/>
          <p:cNvGraphicFramePr/>
          <p:nvPr/>
        </p:nvGraphicFramePr>
        <p:xfrm>
          <a:off x="1042920" y="3429000"/>
          <a:ext cx="4969080" cy="100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2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42920" y="3429000"/>
                    <a:ext cx="4969080" cy="10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3" name="Object 11"/>
          <p:cNvGraphicFramePr/>
          <p:nvPr/>
        </p:nvGraphicFramePr>
        <p:xfrm>
          <a:off x="1042920" y="4941720"/>
          <a:ext cx="5113440" cy="91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42920" y="4941720"/>
                    <a:ext cx="5113440" cy="9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Line 12"/>
          <p:cNvSpPr/>
          <p:nvPr/>
        </p:nvSpPr>
        <p:spPr>
          <a:xfrm>
            <a:off x="2411280" y="3933720"/>
            <a:ext cx="165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13"/>
          <p:cNvSpPr/>
          <p:nvPr/>
        </p:nvSpPr>
        <p:spPr>
          <a:xfrm>
            <a:off x="2484360" y="5373720"/>
            <a:ext cx="1366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200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3300"/>
                </a:solidFill>
                <a:uFillTx/>
                <a:latin typeface="Arial"/>
              </a:rPr>
              <a:t>IV. </a:t>
            </a:r>
            <a:r>
              <a:rPr b="1" lang="ru-RU" sz="4000" spc="-1" strike="noStrike" u="sng">
                <a:solidFill>
                  <a:srgbClr val="ff3300"/>
                </a:solidFill>
                <a:uFillTx/>
                <a:latin typeface="Arial"/>
              </a:rPr>
              <a:t>Найти соотношение молей элементов и вывести простейшую формулу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6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(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(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) =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6,8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: 18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= 1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: 2,6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остейшая формула </a:t>
            </a:r>
            <a:r>
              <a:rPr b="0" lang="ru-RU" sz="4400" spc="-1" strike="noStrike">
                <a:solidFill>
                  <a:srgbClr val="ff3300"/>
                </a:solidFill>
                <a:latin typeface="Arial"/>
              </a:rPr>
              <a:t>СН</a:t>
            </a: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2,6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СН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,65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) = 12+ 2,65 = 14,65 г\мо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4"/>
          <p:cNvSpPr/>
          <p:nvPr/>
        </p:nvSpPr>
        <p:spPr>
          <a:xfrm>
            <a:off x="4067280" y="3213000"/>
            <a:ext cx="936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3300"/>
                </a:solidFill>
                <a:uFillTx/>
                <a:latin typeface="Arial"/>
              </a:rPr>
              <a:t>V. </a:t>
            </a:r>
            <a:r>
              <a:rPr b="1" lang="ru-RU" sz="4000" spc="-1" strike="noStrike" u="sng">
                <a:solidFill>
                  <a:srgbClr val="ff3300"/>
                </a:solidFill>
                <a:uFillTx/>
                <a:latin typeface="Arial"/>
              </a:rPr>
              <a:t>Вывод истинной формулы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68680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 При совпадении  значений М(в-ва) и М(простейшей формулы)  простейшая формула является истинн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 Если значение молярных масс не совпадает, то необходимо сделать дополнительный расчет по формул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" name="Object 4"/>
          <p:cNvGraphicFramePr/>
          <p:nvPr/>
        </p:nvGraphicFramePr>
        <p:xfrm>
          <a:off x="468360" y="4437000"/>
          <a:ext cx="4035240" cy="94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4437000"/>
                    <a:ext cx="4035240" cy="94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Object 6"/>
          <p:cNvGraphicFramePr/>
          <p:nvPr/>
        </p:nvGraphicFramePr>
        <p:xfrm>
          <a:off x="5364000" y="4602240"/>
          <a:ext cx="3322800" cy="798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5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64000" y="4602240"/>
                    <a:ext cx="3322800" cy="79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6" name="Object 8"/>
          <p:cNvGraphicFramePr/>
          <p:nvPr/>
        </p:nvGraphicFramePr>
        <p:xfrm>
          <a:off x="611280" y="5661000"/>
          <a:ext cx="7921440" cy="695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11280" y="5661000"/>
                    <a:ext cx="792144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8" name="Line 9"/>
          <p:cNvSpPr/>
          <p:nvPr/>
        </p:nvSpPr>
        <p:spPr>
          <a:xfrm>
            <a:off x="1476360" y="4869000"/>
            <a:ext cx="280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10"/>
          <p:cNvSpPr/>
          <p:nvPr/>
        </p:nvSpPr>
        <p:spPr>
          <a:xfrm>
            <a:off x="6084720" y="5013360"/>
            <a:ext cx="180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3300"/>
                </a:solidFill>
                <a:uFillTx/>
                <a:latin typeface="Arial"/>
              </a:rPr>
              <a:t>VI. </a:t>
            </a:r>
            <a:r>
              <a:rPr b="1" lang="ru-RU" sz="4000" spc="-1" strike="noStrike" u="sng">
                <a:solidFill>
                  <a:srgbClr val="ff3300"/>
                </a:solidFill>
                <a:uFillTx/>
                <a:latin typeface="Arial"/>
              </a:rPr>
              <a:t>Провер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дача решена верно, если значение молярной массы вещества, выведенная путем расчета, и рассчитанная по формуле в первом действие совпадаю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(СхНу) =44 г\мо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(С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 = 44 г\мо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cc"/>
                </a:solidFill>
                <a:latin typeface="Arial"/>
              </a:rPr>
              <a:t>Ответ: С</a:t>
            </a:r>
            <a:r>
              <a:rPr b="0" lang="ru-RU" sz="2000" spc="-1" strike="noStrike">
                <a:solidFill>
                  <a:srgbClr val="6600cc"/>
                </a:solidFill>
                <a:latin typeface="Arial"/>
              </a:rPr>
              <a:t>3</a:t>
            </a:r>
            <a:r>
              <a:rPr b="0" lang="ru-RU" sz="3200" spc="-1" strike="noStrike">
                <a:solidFill>
                  <a:srgbClr val="6600cc"/>
                </a:solidFill>
                <a:latin typeface="Arial"/>
              </a:rPr>
              <a:t>Н</a:t>
            </a:r>
            <a:r>
              <a:rPr b="0" lang="ru-RU" sz="2000" spc="-1" strike="noStrike">
                <a:solidFill>
                  <a:srgbClr val="6600cc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6600cc"/>
                </a:solidFill>
                <a:uFillTx/>
                <a:latin typeface="Arial"/>
              </a:rPr>
              <a:t>Решите задач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cccc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Найдите молекулярную формулу углеводорода, массовая доля углерода в котором составляет 83,3 %. Относительная плотность паров этого вещества по водороду равна 36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cccc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cc"/>
                </a:solidFill>
                <a:latin typeface="Arial"/>
              </a:rPr>
              <a:t>Найдите молекулярную формулу УВ, массовая доля водорода в котором составляет 15,79%. Относительная плотность паров этого вещества по воздуху равна 3,9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7T05:34:41Z</dcterms:created>
  <dc:creator>Trinkin</dc:creator>
  <dc:description/>
  <dc:language>en-US</dc:language>
  <cp:lastModifiedBy>Катуркина</cp:lastModifiedBy>
  <dcterms:modified xsi:type="dcterms:W3CDTF">2014-03-08T15:05:06Z</dcterms:modified>
  <cp:revision>2</cp:revision>
  <dc:subject/>
  <dc:title>Алгоритм решения задач</dc:title>
</cp:coreProperties>
</file>