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A59-5AA0-4C4C-BCAB-2B75E074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567-61BB-4E55-870C-85EC031C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8F1-CEA9-48B8-8A7A-F91C3FC7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45D4-8084-4ABD-B839-8D8B9700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7439-D749-416D-B821-CBE5597A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3B33-8181-4ABC-81E2-C4515898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84B0-2879-474C-B3AD-EDD6A3BA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27D9-32AF-4AE9-B820-BA0AC01B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EB31-AF04-49C6-BD11-71321B38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AC6A-3350-4C88-9D5F-F2236EAD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9467-F8D4-4D14-99D3-6841C82C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A94-6BAC-4396-94D7-F6306195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E1C6-0B25-4B44-8884-6D962B00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FEF3-92AB-4D40-A1A4-4F667206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DC87-E014-44DE-BE59-F13D548C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9E8A-8621-4FBC-8527-AE5887ED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1628-C352-4E4E-B901-D8769C0C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7D7D-289D-4F6F-84A0-DC7AEC6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11E-49C9-4327-B111-6DFC5C91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336-2EA0-4D1A-8CFA-FA29AFD3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D14-229D-4507-BE8D-AFA66066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C08-ACA2-4D3F-8B91-22CB5EB9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201-10A9-4618-B30C-3973E4C8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BDC-DC2E-4341-B060-799CB813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FCFE-DC7D-4459-B801-1CD0E88F92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2B87-621B-4537-BB16-3D98B6124F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cc"/>
                </a:solidFill>
                <a:uFillTx/>
                <a:latin typeface="Arial"/>
              </a:rPr>
              <a:t>Алгоритм решения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000" y="350532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Вывод химической формулы, если  известна массовая доля эле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cc"/>
                </a:solidFill>
                <a:uFillTx/>
                <a:latin typeface="Arial"/>
              </a:rPr>
              <a:t>Ответы к задачам.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33cc"/>
                </a:solidFill>
                <a:uFillTx/>
                <a:latin typeface="Arial"/>
              </a:rPr>
              <a:t>Задач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ведите формулу вещества, если известно, что массовая доля водорода составляет 18%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лерода 8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сительная плотность по водороду данного ве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вна 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Определить молярную массу вещ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Используя одну из формул, вычислить молярную массу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539640" y="3500280"/>
          <a:ext cx="36943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00280"/>
                    <a:ext cx="36943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6"/>
          <p:cNvGraphicFramePr/>
          <p:nvPr/>
        </p:nvGraphicFramePr>
        <p:xfrm>
          <a:off x="611280" y="5157720"/>
          <a:ext cx="4038480" cy="10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157720"/>
                    <a:ext cx="403848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9"/>
          <p:cNvGraphicFramePr/>
          <p:nvPr/>
        </p:nvGraphicFramePr>
        <p:xfrm>
          <a:off x="5148360" y="5373720"/>
          <a:ext cx="3733560" cy="10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5373720"/>
                    <a:ext cx="37335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5435640" y="3645000"/>
          <a:ext cx="226044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645000"/>
                    <a:ext cx="22604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Line 11"/>
          <p:cNvSpPr/>
          <p:nvPr/>
        </p:nvSpPr>
        <p:spPr>
          <a:xfrm>
            <a:off x="2556000" y="400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3059280" y="5589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7236000" y="587700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Определить массу элеме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 (C x H y) = 100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сюда следует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 * 0,82 = 82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 * 0,12 = 18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340000" y="3402000"/>
          <a:ext cx="403848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402000"/>
                    <a:ext cx="403848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I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Вычислить количество вещества эле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                                рассчит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вещества углерода и вод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3348000" y="1700280"/>
          <a:ext cx="1573200" cy="87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700280"/>
                    <a:ext cx="1573200" cy="8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6"/>
          <p:cNvSpPr/>
          <p:nvPr/>
        </p:nvSpPr>
        <p:spPr>
          <a:xfrm>
            <a:off x="4500720" y="206064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9"/>
          <p:cNvGraphicFramePr/>
          <p:nvPr/>
        </p:nvGraphicFramePr>
        <p:xfrm>
          <a:off x="1042920" y="3429000"/>
          <a:ext cx="496908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429000"/>
                    <a:ext cx="4969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1042920" y="4941720"/>
          <a:ext cx="5113440" cy="91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941720"/>
                    <a:ext cx="511344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Line 12"/>
          <p:cNvSpPr/>
          <p:nvPr/>
        </p:nvSpPr>
        <p:spPr>
          <a:xfrm>
            <a:off x="2411280" y="3933720"/>
            <a:ext cx="16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484360" y="537372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IV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Найти соотношение молей элементов и вывести простейшую форму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,8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2,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ейшая формула </a:t>
            </a: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Н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,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,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) = 12+ 2,65 = 14,65 г\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4067280" y="321300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V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Вывод истинной формул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совпадении  значений М(в-ва) и М(простейшей формулы)  простейшая формула является исти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Если значение молярных масс не совпадает, то необходимо сделать дополнительный расчет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468360" y="4437000"/>
          <a:ext cx="403524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437000"/>
                    <a:ext cx="40352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6"/>
          <p:cNvGraphicFramePr/>
          <p:nvPr/>
        </p:nvGraphicFramePr>
        <p:xfrm>
          <a:off x="5364000" y="4602240"/>
          <a:ext cx="332280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602240"/>
                    <a:ext cx="33228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8"/>
          <p:cNvGraphicFramePr/>
          <p:nvPr/>
        </p:nvGraphicFramePr>
        <p:xfrm>
          <a:off x="611280" y="5661000"/>
          <a:ext cx="792144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661000"/>
                    <a:ext cx="79214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Line 9"/>
          <p:cNvSpPr/>
          <p:nvPr/>
        </p:nvSpPr>
        <p:spPr>
          <a:xfrm>
            <a:off x="1476360" y="486900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6084720" y="5013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VI.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решена верно, если значение молярной массы вещества, выведенная путем расчета, и рассчитанная по формуле в первом действие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(СхНу) =44 г\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(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44 г\м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твет: С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Arial"/>
              </a:rPr>
              <a:t>Решите зада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айдите молекулярную формулу углеводорода, массовая доля углерода в котором составляет 83,3 %. Относительная плотность паров этого вещества по водороду равна 3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Найдите молекулярную формулу УВ, массовая доля водорода в котором составляет 15,79%. Относительная плотность паров этого вещества по воздуху равна 3,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5:34:41Z</dcterms:created>
  <dc:creator>Trinkin</dc:creator>
  <dc:description/>
  <dc:language>en-US</dc:language>
  <cp:lastModifiedBy>Катуркина</cp:lastModifiedBy>
  <dcterms:modified xsi:type="dcterms:W3CDTF">2014-03-08T15:05:06Z</dcterms:modified>
  <cp:revision>2</cp:revision>
  <dc:subject/>
  <dc:title>Алгоритм решения задач</dc:title>
</cp:coreProperties>
</file>