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9EB-AC79-4B4D-89C2-90A9A465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00D-FAE6-4550-A05C-309B31EB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4E8-5E3F-4172-912D-78812FE1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973-32A2-4D6D-B9C5-AE86A5C9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2624-F9AE-4FB4-B92E-44044AED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5891-38DE-4E92-82F6-D93BB60F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E8E9-45AE-478B-86BC-17FF1913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0628-2D37-4916-9D6D-D5C2410A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31BF-AE5F-4AE1-B632-C3707F30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AF5F-5D6E-441B-A827-2F418817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91A8-6EA5-44C6-9186-3B5DCFF7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667-3BF8-483D-9910-E7835ADB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7448-91F2-477F-8A70-C4E95198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A987-B831-4E77-A584-009997D5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C3E3-0CF4-41FA-B709-78D43AB2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3424-E02F-4743-BEAF-0319EEE5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C84D-7724-44A2-9655-DDF6C9F8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5E6-5C37-4167-976D-E1000227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EC7-0CE5-4473-AD55-9AABD54F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563-9908-40D6-9A5A-3CF0FC52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DC1-2694-4F55-87B9-D91E0547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742-A533-472E-9508-15867329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3ED-4D67-4E7E-8C83-0B66EB50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DFF-CCFD-4869-835A-EA70EF12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9C0A-049A-4F59-920D-CA2F1F46B1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8726-CAE2-44F1-9AAB-05458DDCF9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cc"/>
                </a:solidFill>
                <a:uFillTx/>
                <a:latin typeface="Arial"/>
              </a:rPr>
              <a:t>Алгоритм решения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000" y="350532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Вывод химической формулы, если  известна массовая доля элемен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cc"/>
                </a:solidFill>
                <a:uFillTx/>
                <a:latin typeface="Arial"/>
              </a:rPr>
              <a:t>Ответы к задачам.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33cc"/>
                </a:solidFill>
                <a:uFillTx/>
                <a:latin typeface="Arial"/>
              </a:rPr>
              <a:t>Задач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едите формулу вещества, если известно, что массовая доля водорода составляет 18%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лерода 82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сительная плотность по водороду данного ве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вна 2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I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Определить молярную массу вещ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Используя одну из формул, вычислить молярную массу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539640" y="3500280"/>
          <a:ext cx="3694320" cy="10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500280"/>
                    <a:ext cx="36943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6"/>
          <p:cNvGraphicFramePr/>
          <p:nvPr/>
        </p:nvGraphicFramePr>
        <p:xfrm>
          <a:off x="611280" y="5157720"/>
          <a:ext cx="403848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157720"/>
                    <a:ext cx="403848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9"/>
          <p:cNvGraphicFramePr/>
          <p:nvPr/>
        </p:nvGraphicFramePr>
        <p:xfrm>
          <a:off x="5148360" y="5373720"/>
          <a:ext cx="3733560" cy="10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5373720"/>
                    <a:ext cx="37335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"/>
          <p:cNvGraphicFramePr/>
          <p:nvPr/>
        </p:nvGraphicFramePr>
        <p:xfrm>
          <a:off x="5435640" y="3645000"/>
          <a:ext cx="226044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3645000"/>
                    <a:ext cx="22604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Line 11"/>
          <p:cNvSpPr/>
          <p:nvPr/>
        </p:nvSpPr>
        <p:spPr>
          <a:xfrm>
            <a:off x="2556000" y="4005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3059280" y="5589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7236000" y="587700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II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Определить массу элеме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 (C x H y) = 100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г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сюда следует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 * 0,82 = 82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0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 * 0,12 = 18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2340000" y="3402000"/>
          <a:ext cx="403848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402000"/>
                    <a:ext cx="403848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III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Вычислить количество вещества элемен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уле                                 рассчит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вещества углерода и вод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3348000" y="1700280"/>
          <a:ext cx="1573200" cy="87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700280"/>
                    <a:ext cx="157320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6"/>
          <p:cNvSpPr/>
          <p:nvPr/>
        </p:nvSpPr>
        <p:spPr>
          <a:xfrm>
            <a:off x="4500720" y="2060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9"/>
          <p:cNvGraphicFramePr/>
          <p:nvPr/>
        </p:nvGraphicFramePr>
        <p:xfrm>
          <a:off x="1042920" y="3429000"/>
          <a:ext cx="496908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429000"/>
                    <a:ext cx="4969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1042920" y="4941720"/>
          <a:ext cx="5113440" cy="91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941720"/>
                    <a:ext cx="511344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Line 12"/>
          <p:cNvSpPr/>
          <p:nvPr/>
        </p:nvSpPr>
        <p:spPr>
          <a:xfrm>
            <a:off x="2411280" y="393372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2484360" y="5373720"/>
            <a:ext cx="136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IV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Найти соотношение молей элементов и вывести простейшую форму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,8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1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2,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тейшая формула 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Н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2,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,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) = 12+ 2,65 = 14,65 г\м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4067280" y="3213000"/>
            <a:ext cx="93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V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Вывод истинной формул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 совпадении  значений М(в-ва) и М(простейшей формулы)  простейшая формула является исти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Если значение молярных масс не совпадает, то необходимо сделать дополнительный расчет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468360" y="4437000"/>
          <a:ext cx="403524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437000"/>
                    <a:ext cx="403524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6"/>
          <p:cNvGraphicFramePr/>
          <p:nvPr/>
        </p:nvGraphicFramePr>
        <p:xfrm>
          <a:off x="5364000" y="4602240"/>
          <a:ext cx="3322800" cy="79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4602240"/>
                    <a:ext cx="33228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8"/>
          <p:cNvGraphicFramePr/>
          <p:nvPr/>
        </p:nvGraphicFramePr>
        <p:xfrm>
          <a:off x="611280" y="5661000"/>
          <a:ext cx="792144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661000"/>
                    <a:ext cx="79214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Line 9"/>
          <p:cNvSpPr/>
          <p:nvPr/>
        </p:nvSpPr>
        <p:spPr>
          <a:xfrm>
            <a:off x="1476360" y="486900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6084720" y="501336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VI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а решена верно, если значение молярной массы вещества, выведенная путем расчета, и рассчитанная по формуле в первом действие совпа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(СхНу) =44 г\м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(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= 44 г\м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твет: С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cc"/>
                </a:solidFill>
                <a:uFillTx/>
                <a:latin typeface="Arial"/>
              </a:rPr>
              <a:t>Решите задач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айдите молекулярную формулу углеводорода, массовая доля углерода в котором составляет 83,3 %. Относительная плотность паров этого вещества по водороду равна 3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айдите молекулярную формулу УВ, массовая доля водорода в котором составляет 15,79%. Относительная плотность паров этого вещества по воздуху равна 3,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5:34:41Z</dcterms:created>
  <dc:creator>Trinkin</dc:creator>
  <dc:description/>
  <dc:language>en-US</dc:language>
  <cp:lastModifiedBy>Катуркина</cp:lastModifiedBy>
  <dcterms:modified xsi:type="dcterms:W3CDTF">2014-03-08T15:05:06Z</dcterms:modified>
  <cp:revision>2</cp:revision>
  <dc:subject/>
  <dc:title>Алгоритм решения задач</dc:title>
</cp:coreProperties>
</file>